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842B-AA43-41E1-A828-7200D408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D45-ECD5-48E9-8038-F4049387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5E8-3DD4-4719-A483-3548D7184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16E1-D942-45EA-BB5F-9DD6F1F9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2A4-F2A7-43E4-B4A5-92248AD2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B64F-D9B3-478C-8E38-05118275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C65-818A-4669-9BED-A8AE4BBD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42C-D18F-4602-8F09-5B56F184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360-12C0-4575-83A6-5CFE739A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F46-BD58-4E60-A13B-7655E519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D7B-3BC4-404E-80CD-5C6631F2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7F9-2C08-4B1A-821A-A17BAB0F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BD06-6261-4EC3-B2BE-EB3FB2F7A5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29280" y="1857240"/>
            <a:ext cx="4914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ллюзии и интерпретации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Иеронима Босх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AdventureC"/>
              </a:rPr>
              <a:t>1450-151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14240" y="785880"/>
            <a:ext cx="3857760" cy="50594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5572080" y="6143760"/>
            <a:ext cx="3571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Фесенко Александр Отт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Учитель изобразительного искус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0f0"/>
                </a:solidFill>
                <a:latin typeface="AdventureC"/>
              </a:rPr>
              <a:t>МБОУ «Высокоключевая СОШ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57800" y="5714640"/>
            <a:ext cx="498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Человек-дерево в пейзаже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5" descr="Человек-дерево в пейзаже"/>
          <p:cNvPicPr/>
          <p:nvPr/>
        </p:nvPicPr>
        <p:blipFill>
          <a:blip r:embed="rId2"/>
          <a:stretch/>
        </p:blipFill>
        <p:spPr>
          <a:xfrm>
            <a:off x="357120" y="306360"/>
            <a:ext cx="47149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571720"/>
            <a:ext cx="2857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Искушение Святого Анто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Рисунок 3" descr="искушение Св Антония.jpg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Монстры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монстры"/>
          <p:cNvPicPr/>
          <p:nvPr/>
        </p:nvPicPr>
        <p:blipFill>
          <a:blip r:embed="rId2"/>
          <a:stretch/>
        </p:blipFill>
        <p:spPr>
          <a:xfrm>
            <a:off x="357120" y="928800"/>
            <a:ext cx="862812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4"/>
          <p:cNvSpPr/>
          <p:nvPr/>
        </p:nvSpPr>
        <p:spPr>
          <a:xfrm>
            <a:off x="444600" y="571500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вятой  Антоний.1500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Рисунок 3" descr="Св Антоний.jpg"/>
          <p:cNvPicPr/>
          <p:nvPr/>
        </p:nvPicPr>
        <p:blipFill>
          <a:blip r:embed="rId2"/>
          <a:stretch/>
        </p:blipFill>
        <p:spPr>
          <a:xfrm>
            <a:off x="3571920" y="0"/>
            <a:ext cx="4856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4811040" y="6357960"/>
            <a:ext cx="22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знесение. 150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Рисунок 3" descr="Вознесение.jpg"/>
          <p:cNvPicPr/>
          <p:nvPr/>
        </p:nvPicPr>
        <p:blipFill>
          <a:blip r:embed="rId2"/>
          <a:stretch/>
        </p:blipFill>
        <p:spPr>
          <a:xfrm>
            <a:off x="714240" y="0"/>
            <a:ext cx="294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099800" y="62866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есение креста. 1515-1516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Рисунок 3" descr="Несение креста 1.jpg"/>
          <p:cNvPicPr/>
          <p:nvPr/>
        </p:nvPicPr>
        <p:blipFill>
          <a:blip r:embed="rId2"/>
          <a:stretch/>
        </p:blipFill>
        <p:spPr>
          <a:xfrm>
            <a:off x="4429080" y="0"/>
            <a:ext cx="36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1214280" y="16430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u.wikipedia.or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1171440" y="228600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bay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1214280" y="2714760"/>
            <a:ext cx="17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bliotekar.r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2617560" y="64296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Использованные ресурс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285840" y="1357200"/>
            <a:ext cx="8858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ventureC"/>
              </a:rPr>
              <a:t>Босх Хиеронимус ван Акен, (около 1450/60–1516), великий нидерландский живописец. Работал главным образом в Хертогенбосе в Северной Фландрии. Один из наиболее ярких мастеров раннего Северного Возрождения, Иероним Босх в своих многофигурных композициях сочетал изощренную средневековую фантастику с необычными для искусства его эпохи реалистическими новшествами. Стиль Босха уникален и не имеет аналогий в нидерландской живописной традиции. 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571680" y="2000160"/>
            <a:ext cx="857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ллю́з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лат. 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illusio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— заблуждение, обман) — искаженное восприятие реально существующего объекта или явл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571680" y="3357720"/>
            <a:ext cx="1018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нтерпретац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 индивидуальная трактовка исполнителем исполняем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едения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214200" y="1720800"/>
            <a:ext cx="8501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Есть повод говорить, даже по прошествии  пяти сотен лет, об особом взгляде Босха на  жизнь и действитель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Он стоит особняком не только  среди современников и сограждан , но и в целом, значит мы имеем дело с ге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Слово иллюзорное вряд ли подходит в этом случае, но найти более подходящее  не удается. Босх интерпретирует  жизненные картины на своих полотнах  жестоко и точ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dventureC"/>
              </a:rPr>
              <a:t>И мы видим что это вер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Несение креста. 1516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D:\MyDoc\Документы - Папа\Комплексная программа\Репродукции\Брейгель\несение креста.jpg"/>
          <p:cNvPicPr/>
          <p:nvPr/>
        </p:nvPicPr>
        <p:blipFill>
          <a:blip r:embed="rId2"/>
          <a:stretch/>
        </p:blipFill>
        <p:spPr>
          <a:xfrm>
            <a:off x="2214720" y="571680"/>
            <a:ext cx="612432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6160" y="5928840"/>
            <a:ext cx="48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Увенчание терновым венком.</a:t>
            </a:r>
            <a:br>
              <a:rPr sz="2000"/>
            </a:b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1490е – 1500е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D:\MyDoc\Документы - Папа\Комплексная программа\Репродукции\Брейгель\увенчание терновым венком.jpg"/>
          <p:cNvPicPr/>
          <p:nvPr/>
        </p:nvPicPr>
        <p:blipFill>
          <a:blip r:embed="rId2"/>
          <a:stretch/>
        </p:blipFill>
        <p:spPr>
          <a:xfrm>
            <a:off x="1428840" y="428760"/>
            <a:ext cx="46670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500040" y="5214960"/>
            <a:ext cx="48578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орабль дураков. 1490е-1500е 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D:\MyDoc\Документы - Папа\Комплексная программа\Репродукции\Брейгель\корабль дураков.jpg"/>
          <p:cNvPicPr/>
          <p:nvPr/>
        </p:nvPicPr>
        <p:blipFill>
          <a:blip r:embed="rId2"/>
          <a:stretch/>
        </p:blipFill>
        <p:spPr>
          <a:xfrm>
            <a:off x="4000680" y="47520"/>
            <a:ext cx="3447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29200" y="5857920"/>
            <a:ext cx="3214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Блудный сын. 1503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214200" y="428760"/>
            <a:ext cx="6072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Воз сена. 1500-150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Рисунок 3" descr="Воз сена.jpg"/>
          <p:cNvPicPr/>
          <p:nvPr/>
        </p:nvPicPr>
        <p:blipFill>
          <a:blip r:embed="rId2"/>
          <a:stretch/>
        </p:blipFill>
        <p:spPr>
          <a:xfrm>
            <a:off x="3571920" y="0"/>
            <a:ext cx="487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56:12Z</dcterms:created>
  <dc:creator>Фесенко</dc:creator>
  <dc:description/>
  <dc:language>en-US</dc:language>
  <cp:lastModifiedBy>КарМаН</cp:lastModifiedBy>
  <dcterms:modified xsi:type="dcterms:W3CDTF">2012-04-24T10:39:42Z</dcterms:modified>
  <cp:revision>24</cp:revision>
  <dc:subject/>
  <dc:title>Иллюзии и ассоциации  Иеронима Босха 1450-1516</dc:title>
</cp:coreProperties>
</file>